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EF6-BB40-4388-9E5D-2716B765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A6C-6E8F-435E-A326-FE951F06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F2C-2461-42D7-9D9E-42FDA776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3B3-B613-4C09-929A-DC88BDD8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107-7FFD-4A21-A3B6-602A3A17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CDA-8553-4C76-A8E2-0788830F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888-2D4C-4935-9EE0-4D914A25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0E4-4C70-4AC0-835D-3F052C71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EAE-CCF8-40F8-A462-FC401C80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281-1A65-4823-9C5C-12E51B5A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C88-88BA-478B-B4D4-5AD33605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B7F-E2E3-422E-ABEA-FE951F3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3D42-6D9F-45E4-91D5-88B5BAB72651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Croitoru I. Mihae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0E8B-9E19-4D2F-B153-EED63D22AB60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Croitoru I. Mihae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16:41:48Z</dcterms:created>
  <dc:creator>Mihaela</dc:creator>
  <dc:description/>
  <dc:language>en-US</dc:language>
  <cp:lastModifiedBy>Mihaela</cp:lastModifiedBy>
  <dcterms:modified xsi:type="dcterms:W3CDTF">2012-12-20T15:36:06Z</dcterms:modified>
  <cp:revision>3</cp:revision>
  <dc:subject/>
  <dc:title>PowerPoint Presentation</dc:title>
</cp:coreProperties>
</file>